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D2A-5B89-4F3E-9615-D5BBE5B4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A54-EA7D-4911-A5F7-7F7889F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D6D-63D9-4659-B688-A8C4B49F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10A-6089-4C0E-B8E9-4DCCAAAD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7D09-41C9-45F8-8D8F-5EC254BA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5DC0-4C02-4FC4-92C1-2E139AB0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B006-1C8D-441D-B18E-C17CEF2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F36-3A66-4E18-8FFE-5355863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16FC-2828-4EDB-8652-7C205697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444-DC10-4D59-992A-48E48F8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448C-D16C-4FA6-B486-332788E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C62-B19E-4601-BA35-88C02CA8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C9B2-06BD-4FCD-AC80-4285263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2D69-1550-4E6C-9183-A28C30B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913-56C1-4847-9C4F-60002C19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C781-68AF-490E-BC5A-0019C081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12D-CA59-45F4-A5C7-2B4B809E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931-D21E-4D28-A947-AA737C8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B5F-EB11-4C56-B599-13E9F175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CE5-E217-4135-A251-7DAC9F1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FE9-E6D2-44C8-AEBD-CC5B9545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0DE-8952-4465-B0B5-778D817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710-508C-49E3-A161-9A35C3DF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77E-9CBE-4EA8-9F68-4CA53A5C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3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leasant Grove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pr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BB0D-B5E3-4409-AFEB-094AFD7734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leasant Grove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pr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F75-6A66-4866-ACC3-71A4A06C07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IRU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2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849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ojan Ho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program that seems to perform one function while actually doing something e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from a virus because it does not make copies of itsel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tasks that can be aff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aling pass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leting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162920" cy="3900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ojan Horse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program designed to enter a computer system usually through a network, through security holes and then replicate it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reads from computer to 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m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6248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ng yourself from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virus softw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of utility programs that looks for and eradicates a wide spectrum of problems, including viruses, Trojan horses, and w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cAfee Virus S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open e-mails attachments that have strange names or are from people you don’t recogn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sons, June Jamrich, and Dan Oja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mputer Concep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Boston: Course Technology - Thompson Learning, 2002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038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of program instructions that attaches itself to a file, reproduces itself, and/or spreads to other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c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rupt f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troy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play irritating messa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rupt computer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3343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reading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es spread because people distribute infected files by exchanging disks and CDs, sending e-mail attachments, and downloading documents from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es attach themselves to files with .exe, .com, or .vbs filename exten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open the infected file, the virus opens and waits to infect the next program you run or disk you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reading Viruses 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es have the ability to lurk in a computer for days or months, quietly replicating themsel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ay not even know your computer has a virus, thus making it easier to spread the vir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gger Ev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event that activates a task often associated with a computer vir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Bom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tches for the PC clock to reach a certain date to activate the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chelangelo viru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mages files on March 6 the artist’s birthda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 Bom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tches for a specific set of input to activate the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 of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51240" y="2362320"/>
            <a:ext cx="4467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le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 that attaches to an application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ernoby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orious for overwriting a section of the hard disk, making it impossible to acces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t Sector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cts the system files that your computer uses every time it is turned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 widespread damage and recurring probl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ned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very time you turn on your computer the virus is activated and infects any non-write-protected files including your hard di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miniature program that usually contains legitimate instructions to automate a document or ta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virus infects a mac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lissa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aches itself to Microsoft Word docum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demas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aches itself to Microsoft Excel spreadshee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19:05Z</dcterms:created>
  <dc:creator>Michelle Guymon</dc:creator>
  <dc:description/>
  <dc:language>en-US</dc:language>
  <cp:lastModifiedBy>Larry Phelps</cp:lastModifiedBy>
  <dcterms:modified xsi:type="dcterms:W3CDTF">2004-09-07T16:56:07Z</dcterms:modified>
  <cp:revision>25</cp:revision>
  <dc:subject/>
  <dc:title>Viruses</dc:title>
</cp:coreProperties>
</file>